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6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CAMERA.WAV" ContentType="audio/x-wav"/>
  <Override PartName="/ppt/media/image24.wmf" ContentType="image/x-wmf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0E9E-2E0E-4244-B7A0-354AF4F82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B42B-A6F2-40C9-8419-FBC0F4C7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1AFC-AAE0-4BEC-9B52-DA0B70891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797A-A317-4EC6-B04E-DF3A786A5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7DB4-8BC4-4786-9E18-C38D19A0C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05D0-7C00-4969-AE06-1D8A08182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826E-471C-4D46-9046-49747BD23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9254-4F5A-442E-BAF0-521DBA37A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E977-7763-4A92-8F6F-5C3D38EC9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E618-6C6E-4D20-B9E9-DAA8C73F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93A9-4A53-42CD-8449-5DF04B27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8959-ED96-4675-8E60-2E1CE35F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6F463-E2EB-4C0F-A867-9CAD103D51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81a1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809880"/>
            <a:ext cx="81536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AUTOR: ANNE-MAI JÜRISO</a:t>
            </a:r>
            <a:br>
              <a:rPr sz="2400"/>
            </a:b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Koigi Põhikool</a:t>
            </a:r>
            <a:br>
              <a:rPr sz="2400"/>
            </a:b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Järvamaa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KOOLITAJA:</a:t>
            </a: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IIVE KARUSION</a:t>
            </a:r>
            <a:br>
              <a:rPr sz="2400"/>
            </a:b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09680" y="990720"/>
            <a:ext cx="32767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88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RVUTI KOOLI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1600200" y="457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99"/>
                </a:solidFill>
                <a:latin typeface="Comic Sans MS"/>
              </a:rPr>
              <a:t>Kurs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81280" y="198108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99"/>
                </a:solidFill>
                <a:latin typeface="Comic Sans MS"/>
              </a:rPr>
              <a:t>lõputö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28800" y="289548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99"/>
                </a:solidFill>
                <a:latin typeface="Comic Sans MS"/>
              </a:rPr>
              <a:t>Teema: Loomariik                       7.kl. bioloo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6a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Tuuletalla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2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Laululinnu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19814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85800" y="4114800"/>
            <a:ext cx="3809880" cy="19810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ÖÖBIK toob öösooja vanarahva arv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Ööbikul on meloodiline la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KULDNOKK on üks esimesi kevadel saabuvaid rändlin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Kuldnokal on kiire ja reibas la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3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Imetaj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2057400"/>
            <a:ext cx="4495680" cy="37339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Imetajad on kõige kõrgema arenguastmega loom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Nende keha on enamasti kaetud tiheda karvkatteg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Pojad arenevad esmalt emaorganism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Pärast sündimist toidetakse neid emapiimaga - sellest ka loomariigi nimet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Püsisoojastena on imetajad levinud üle kogu maake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Maailmas on imetajaid üle 4000 liigi, neist Eestis 6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3" name="CAMER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6543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Valik metsloom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724280" y="1981080"/>
            <a:ext cx="3810240" cy="19814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85800" y="4114800"/>
            <a:ext cx="3809880" cy="19810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648320" y="4114800"/>
            <a:ext cx="3809880" cy="1981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685800" y="1981080"/>
            <a:ext cx="3809880" cy="1981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5" name="CAMERA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6000" spc="-1" strike="noStrike">
                <a:solidFill>
                  <a:srgbClr val="000099"/>
                </a:solidFill>
                <a:latin typeface="Comic Sans MS"/>
              </a:rPr>
              <a:t>INIMEN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85800" y="2570040"/>
            <a:ext cx="3809880" cy="29354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0099"/>
                </a:solidFill>
                <a:latin typeface="Times New Roman"/>
              </a:rPr>
              <a:t>Inimene kuulub kehaehituselt esikloomade ehk primaatide selts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0099"/>
                </a:solidFill>
                <a:latin typeface="Times New Roman"/>
              </a:rPr>
              <a:t>Inimene on Maa kõrgeima arenemistasemega organis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0099"/>
                </a:solidFill>
                <a:latin typeface="Times New Roman"/>
              </a:rPr>
              <a:t>Inimene on  </a:t>
            </a:r>
            <a:r>
              <a:rPr b="1" lang="et-EE" sz="2000" spc="-1" strike="noStrike">
                <a:solidFill>
                  <a:srgbClr val="000099"/>
                </a:solidFill>
                <a:latin typeface="Times New Roman"/>
              </a:rPr>
              <a:t>mõistuse</a:t>
            </a:r>
            <a:r>
              <a:rPr b="1" lang="et-EE" sz="2000" spc="-1" strike="noStrike">
                <a:solidFill>
                  <a:srgbClr val="000099"/>
                </a:solidFill>
                <a:latin typeface="Times New Roman"/>
              </a:rPr>
              <a:t> ja kõnevõimega ol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0099"/>
                </a:solidFill>
                <a:latin typeface="Times New Roman"/>
              </a:rPr>
              <a:t>Inimene oskab valmistada tööriistu ja nende abil mõjutada ja muuta keskkonda</a:t>
            </a:r>
            <a:r>
              <a:rPr b="1" lang="et-EE" sz="28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0099"/>
                </a:solidFill>
                <a:latin typeface="Times New Roman"/>
              </a:rPr>
              <a:t>Inimrassid: europiidid, negriidid, mongoliidi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3" name="CAMERA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a0a0c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Kasutatud materjal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Eesti elusloodus. 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Koostanud Rein Kuresoo, Hendrik Relve Indrek Rohtmets. Kirjastus Varrak,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Euroopa linnud. 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Koostanud Lars Jonsson. EE kirjastus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http://www.hot.ee/avianet/pildid.h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http://sunsite.ee/loomad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467480" cy="1523880"/>
          </a:xfrm>
          <a:prstGeom prst="rect">
            <a:avLst/>
          </a:prstGeom>
          <a:solidFill>
            <a:srgbClr val="99cc00"/>
          </a:solidFill>
          <a:ln w="936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6000" spc="-1" strike="noStrike">
                <a:solidFill>
                  <a:srgbClr val="000000"/>
                </a:solidFill>
                <a:latin typeface="Comic Sans MS"/>
              </a:rPr>
              <a:t>LOOMARII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320" y="2133720"/>
            <a:ext cx="6705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omic Sans MS"/>
              </a:rPr>
              <a:t>KAL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omic Sans MS"/>
              </a:rPr>
              <a:t>KAHEPAIK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omic Sans MS"/>
              </a:rPr>
              <a:t>ROOMAJ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omic Sans MS"/>
              </a:rPr>
              <a:t>LINNU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Comic Sans MS"/>
              </a:rPr>
              <a:t>IMETAJ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7.klassi õpilaste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Koostaja: </a:t>
            </a: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ANNE-MAI  JÜRISO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2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Kal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33520" y="160020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Kalad on selgroogsed loomad, kes on kohastunud elama ve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Vees ujumiseks on neil uim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Kalad hingavad lõpuste kaud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Maailmas elab 25000 kalaliik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Eestis 76 liik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3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50000">
              <a:srgbClr val="f7faf9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Kahepaiks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Kahepaiksed on selgroogsed loom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Suudavad elada nii vees kui ka maisma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Kahepaiksed suudavad elada ainult magedas ve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Kahepaiksed hingavad kopsudega ja niiske naha kaud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Maakeral elab 3000 liiki kahepaiksei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Eestis 10 liik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AN02542_" descr=""/>
          <p:cNvPicPr/>
          <p:nvPr/>
        </p:nvPicPr>
        <p:blipFill>
          <a:blip r:embed="rId1"/>
          <a:stretch/>
        </p:blipFill>
        <p:spPr>
          <a:xfrm>
            <a:off x="685800" y="2197080"/>
            <a:ext cx="3809880" cy="36831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2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eddc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Roomaj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Roomajad on selgroog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Roomajad on kõigu-sooja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Hingamiseks on neil ainult kopsu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Paremini on arenenud nägemis- ja maitsmisme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Maailmas on üle 8000 liigi roomajaid, Eestis elab neist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862280"/>
            <a:ext cx="4191120" cy="4157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2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Linnu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95680" y="1752120"/>
            <a:ext cx="4191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Linnud on selgroog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Lindudel on kerged luu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Esijäsemetest on kujunenud tiiv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Linnud on püsisoojased, nende kehatemperatuur on püsiv ega sõltu välis-temperatuur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Maailmas on 8600 liiki lin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Eestis elab 297 liik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AN02097_" descr=""/>
          <p:cNvPicPr/>
          <p:nvPr/>
        </p:nvPicPr>
        <p:blipFill>
          <a:blip r:embed="rId2"/>
          <a:stretch/>
        </p:blipFill>
        <p:spPr>
          <a:xfrm>
            <a:off x="187200" y="1600200"/>
            <a:ext cx="4299120" cy="5029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3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Lindude are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85800" y="1828800"/>
            <a:ext cx="3809880" cy="1981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85800" y="4114800"/>
            <a:ext cx="380988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Lind areneb muna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Linnumuna on kaetud tugeva lubikesta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Eesti lindudest on kõige suurem muna luigel-340 g, kõige väiksem pöialpoisil-0,7 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Jaanalinnu muna kaalub umbes 1600 gramm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imes New Roman"/>
              </a:rPr>
              <a:t>Munade arv pesas sõltub linnu liig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4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00"/>
            </a:gs>
            <a:gs pos="100000">
              <a:srgbClr val="e7e7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Pesitsem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3809880" cy="38862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Munemiseks ja poegade kasvatamiseks ehitavad linnud pe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Luikede veetaimedest kokkukuhjatud pesad on õige koguk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Põldlõoke teeb pesa maapinna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Põõsalind valib pesakohaks tiheda põõsa või hek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Varese pesa asub kõrgel puuoks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Suitsupääsukese pesa on laud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Times New Roman"/>
              </a:rPr>
              <a:t>Tuttpütt kuhjab oma pesa madalasse vet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2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Valik lin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KORMORANID pesitsevad kolooniatena laidudel, puhkavad rannikul kividel, toituvad avave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Pesa on puu ots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Toituvad kalade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Kaaluvad 2000-3000 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Kormoranide väljaheide hävitab kiiresti kogu taimkatte kolooni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Times New Roman"/>
              </a:rPr>
              <a:t>Kornoranid on Eesti haudelinnustiku uustulnuk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3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9T13:06:23Z</dcterms:created>
  <dc:creator>Puhh1</dc:creator>
  <dc:description/>
  <dc:language>en-US</dc:language>
  <cp:lastModifiedBy>Mari Plakk</cp:lastModifiedBy>
  <dcterms:modified xsi:type="dcterms:W3CDTF">2001-11-27T13:40:16Z</dcterms:modified>
  <cp:revision>97</cp:revision>
  <dc:subject/>
  <dc:title>loomariik</dc:title>
</cp:coreProperties>
</file>