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CAMERA.WAV" ContentType="audio/x-wav"/>
  <Override PartName="/ppt/media/image24.wmf" ContentType="image/x-wm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5CE-5DBE-4C2B-9222-1CE7CDB8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F6E-A715-4E3F-BF8E-3D19A6E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D1E-2D8B-4406-8A74-AEC8BCA0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A28-97D7-4886-85D1-94E4FC2E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DC-C9F5-4419-AFE8-06610ED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573-D948-4434-A357-6CAC534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1C1-C0E7-40D0-B229-C56BE5A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C26-1C61-4285-9C08-6448439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CCE-171C-443E-AD92-CD1F80B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7A7-F312-4CB5-B6E3-8084A7D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F1-1A44-4422-B907-F801981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4C2-F14A-4D33-9FDA-F8ABD7D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6C8-19FB-4488-B018-F848D21AE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a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80988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UTOR: ANNE-MAI JÜRISO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oigi Põhikool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Järvamaa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LITAJA: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IIVE KARUSION</a:t>
            </a:r>
            <a:br>
              <a:rPr sz="24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99072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VUTI KO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57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Kurs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981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lõputö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895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Teema: Loomariik                       7.kl. biolo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6a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uuletall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aululinn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ÖÖBIK toob öösooja vanarahva arv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Ööbikul on meloodiline la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LDNOKK on üks esimesi kevadel saabuvaid rändli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ldnokal on kiire ja reibas la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Imetaj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Imetajad on kõige kõrgema arenguastmega loom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ende keha on enamasti kaetud tiheda karvkatt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ojad arenevad esmalt emaorganism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ärast sündimist toidetakse neid emapiimaga - sellest ka loomariigi nim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üsisoojastena on imetajad levinud üle kogu maak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aailmas on imetajaid üle 4000 liigi, neist Eestis 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6543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Valik metslo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000" spc="-1" strike="noStrike">
                <a:solidFill>
                  <a:srgbClr val="000099"/>
                </a:solidFill>
                <a:latin typeface="Comic Sans MS"/>
              </a:rPr>
              <a:t>INIME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2570040"/>
            <a:ext cx="3809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kuulub kehaehituselt esikloomade ehk primaatide selt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n Maa kõrgeima arenemistasemega org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n  </a:t>
            </a: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mõistuse</a:t>
            </a: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 ja kõnevõimega ol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skab valmistada tööriistu ja nende abil mõjutada ja muuta keskkonda</a:t>
            </a:r>
            <a:r>
              <a:rPr b="1" lang="et-EE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rassid: europiidid, negriidid, mongolii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0a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sutatud materja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esti elusloodus.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stanud Rein Kuresoo, Hendrik Relve Indrek Rohtmets. Kirjastus Varrak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uroopa linnud.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stanud Lars Jonsson. EE kirjastu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http://www.hot.ee/avianet/pild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http://sunsite.ee/looma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46748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6000" spc="-1" strike="noStrike">
                <a:solidFill>
                  <a:srgbClr val="000000"/>
                </a:solidFill>
                <a:latin typeface="Comic Sans MS"/>
              </a:rPr>
              <a:t>LOOMARII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KA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KAHEPAIK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ROOMAJ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LINN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IMETAJ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7.klassi õpilas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Koostaja: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NNE-MAI  JÜRIS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alad on selgroogsed loomad, kes on kohastunud elama v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es ujumiseks on neil ui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alad hingavad lõpuste kau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elab 25000 kala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s 76 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f7faf9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hepaik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on selgroogsed loom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uudavad elada nii vees kui ka maisma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suudavad elada ainult magedas v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hingavad kopsudega ja niiske naha kau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aakeral elab 3000 liiki kahepaikse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estis 10 li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N02542_" descr=""/>
          <p:cNvPicPr/>
          <p:nvPr/>
        </p:nvPicPr>
        <p:blipFill>
          <a:blip r:embed="rId1"/>
          <a:stretch/>
        </p:blipFill>
        <p:spPr>
          <a:xfrm>
            <a:off x="685800" y="2197080"/>
            <a:ext cx="3809880" cy="368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edd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oomaj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oomajad on selgroog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oomajad on kõigu-sooj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ingamiseks on neil ainult kops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aremini on arenenud nägemis- ja maitsmism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on üle 8000 liigi roomajaid, Eestis elab neis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862280"/>
            <a:ext cx="419112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n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d on selgroog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dudel on kerged lu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sijäsemetest on kujunenud tiiv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d on püsisoojased, nende kehatemperatuur on püsiv ega sõltu välis-temperatuur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on 8600 liiki li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s elab 297 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02097_" descr=""/>
          <p:cNvPicPr/>
          <p:nvPr/>
        </p:nvPicPr>
        <p:blipFill>
          <a:blip r:embed="rId2"/>
          <a:stretch/>
        </p:blipFill>
        <p:spPr>
          <a:xfrm>
            <a:off x="187200" y="1600200"/>
            <a:ext cx="42991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dude are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d areneb mun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muna on kaetud tugeva lubikesta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 lindudest on kõige suurem muna luigel-340 g, kõige väiksem pöialpoisil-0,7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Jaanalinnu muna kaalub umbes 1600 gram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unade arv pesas sõltub linnu liig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e7e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esitse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Munemiseks ja poegade kasvatamiseks ehitavad linnud p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Luikede veetaimedest kokkukuhjatud pesad on õige koguk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õldlõoke teeb pesa maapin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õõsalind valib pesakohaks tiheda põõsa või he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Varese pesa asub kõrgel puuok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uitsupääsukese pesa on lau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uttpütt kuhjab oma pesa madalasse vet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Valik li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MORANID pesitsevad kolooniatena laidudel, puhkavad rannikul kividel, toituvad avav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esa on puu ot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oituvad kala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aluvad 2000-3000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moranide väljaheide hävitab kiiresti kogu taimkatte koloon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noranid on Eesti haudelinnustiku uustulnuk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3:06:23Z</dcterms:created>
  <dc:creator>Puhh1</dc:creator>
  <dc:description/>
  <dc:language>en-US</dc:language>
  <cp:lastModifiedBy>Mari Plakk</cp:lastModifiedBy>
  <dcterms:modified xsi:type="dcterms:W3CDTF">2001-11-27T13:40:16Z</dcterms:modified>
  <cp:revision>97</cp:revision>
  <dc:subject/>
  <dc:title>loomariik</dc:title>
</cp:coreProperties>
</file>